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ACEC-5A17-4EFA-B193-5FCC81140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220D-4101-46B5-BA33-BC61578A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917B-DA38-4A16-AD66-94AF5C3AE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4A3B-09C0-42DB-B75D-6704EC0AF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2A05-70B8-4563-B9C6-DB196025A6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EC03-03AC-4A73-B14F-C5561F2C2DF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nteract with the U2700 modules through a familiar, instrument-like interface. Starting at the left and rotating counterclockwise, the examples shown here are the function generator, oscilloscope, switch matrix and source/measure unit. Each instrument has its own window so all can be quickly accessed to change settings, view readings or analyz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C2C6-543A-49C8-8905-DDE75ADA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4D9C-FFD4-4DEC-ABB4-4C2919A11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D2AF-1751-47D7-A10B-159A59714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CDE0-0DB2-4ECF-90E3-7615E4498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1671-88FB-4BE5-B113-D1DB1A948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93A8-04B6-4314-8C6F-032ED63141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0C97-4148-45BA-8F92-2F6E3659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2608A-47CE-49FC-A269-2A29CBAF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09BE-F1EC-44B3-9C54-27D7439859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4FF-91FA-44FD-BE59-5E0659A41A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1C7-526D-4E74-B219-CD198DC1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1CE-4D9C-47BF-AC85-7DF522A2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C2E-8579-4238-9A88-20F458E1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1B4-DD95-4ECD-988F-FE0DADF9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E57-E63D-4C44-8EF9-10EDD3AF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D27-2944-4E73-A7A0-7ECF31E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ED12-0823-4F67-A812-CC27CCE6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AD1-19DF-4419-955F-8ABE8202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B90-C04A-4769-9889-6125577D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B51-2297-4F2D-8E1F-2ACFA115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9A8-5461-43BF-87B3-49C2C7C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9D3-38A3-475D-B614-D785F1946A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7C23-1248-4388-A585-69D5253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9232-C79C-401C-B0AD-7C875772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8F94-C605-4426-8F15-E7E4476E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0A43-5C6C-4096-8D08-F3CF6C99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0D5B-CC52-49DE-9225-328C267A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7664-082F-450E-8C5E-BD7725E6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F13E-D87A-4627-B278-88413AA2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9C3BD951-5D14-4E7C-89A6-CD26F39A8BF3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3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6" descr="BID_Logo_3_23f"/>
          <p:cNvPicPr/>
          <p:nvPr/>
        </p:nvPicPr>
        <p:blipFill>
          <a:blip r:embed="rId4"/>
          <a:stretch/>
        </p:blipFill>
        <p:spPr>
          <a:xfrm>
            <a:off x="8450280" y="49320"/>
            <a:ext cx="617400" cy="482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74D29235-6689-40D1-8AFB-D4AB9D1E093C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jpeg"/><Relationship Id="rId13" Type="http://schemas.openxmlformats.org/officeDocument/2006/relationships/image" Target="../media/image31.png"/><Relationship Id="rId14" Type="http://schemas.openxmlformats.org/officeDocument/2006/relationships/image" Target="../media/image30.jpeg"/><Relationship Id="rId15" Type="http://schemas.openxmlformats.org/officeDocument/2006/relationships/image" Target="../media/image30.jpeg"/><Relationship Id="rId16" Type="http://schemas.openxmlformats.org/officeDocument/2006/relationships/image" Target="../media/image3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5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B383D46-D7D9-4675-A1AB-1B18013FA5B6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1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440" y="291600"/>
            <a:ext cx="5060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Agilent USB Modular Instruments &amp; Data Acquisition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95" name="Picture 6" descr="C:\Documents and Settings\engchneo\My Documents\My Pictures\Agilent\Modular\DAQ Modular_withoutcili.jpg"/>
          <p:cNvPicPr/>
          <p:nvPr/>
        </p:nvPicPr>
        <p:blipFill>
          <a:blip r:embed="rId1"/>
          <a:stretch/>
        </p:blipFill>
        <p:spPr>
          <a:xfrm>
            <a:off x="2862360" y="2354400"/>
            <a:ext cx="5000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VEE Code Converter – How Does It Look Like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5715000" y="1185840"/>
            <a:ext cx="316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Command Logger files that you would like to convert to V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nvert more than one file at any on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es will be saved in the same folder as the Command Logger sourc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ScreenHunter_02 Apr. 16 14.36.gif"/>
          <p:cNvPicPr/>
          <p:nvPr/>
        </p:nvPicPr>
        <p:blipFill>
          <a:blip r:embed="rId1"/>
          <a:stretch/>
        </p:blipFill>
        <p:spPr>
          <a:xfrm>
            <a:off x="179280" y="1165320"/>
            <a:ext cx="5330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Microsoft C#/C++/VB Code Converter – How Does It Look Like? 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DA946B33-6CC6-4E98-8289-A9E6C447F55B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293760" y="5356080"/>
            <a:ext cx="85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a Command Logger File to Programming Codes and Save it to Disk Easily using the Code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ScreenHunter_03 Apr. 16 14.40.gif"/>
          <p:cNvPicPr/>
          <p:nvPr/>
        </p:nvPicPr>
        <p:blipFill>
          <a:blip r:embed="rId1"/>
          <a:stretch/>
        </p:blipFill>
        <p:spPr>
          <a:xfrm>
            <a:off x="112680" y="619200"/>
            <a:ext cx="8943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"/>
          <p:cNvGrpSpPr/>
          <p:nvPr/>
        </p:nvGrpSpPr>
        <p:grpSpPr>
          <a:xfrm>
            <a:off x="146160" y="3267000"/>
            <a:ext cx="1822320" cy="2530440"/>
            <a:chOff x="146160" y="3267000"/>
            <a:chExt cx="1822320" cy="2530440"/>
          </a:xfrm>
        </p:grpSpPr>
        <p:pic>
          <p:nvPicPr>
            <p:cNvPr id="97" name="Rectangle 2" descr=""/>
            <p:cNvPicPr/>
            <p:nvPr/>
          </p:nvPicPr>
          <p:blipFill>
            <a:blip r:embed="rId1"/>
            <a:stretch/>
          </p:blipFill>
          <p:spPr>
            <a:xfrm>
              <a:off x="146160" y="3267000"/>
              <a:ext cx="182232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080" y="3274920"/>
              <a:ext cx="1809720" cy="25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ectangle 11"/>
          <p:cNvGrpSpPr/>
          <p:nvPr/>
        </p:nvGrpSpPr>
        <p:grpSpPr>
          <a:xfrm>
            <a:off x="2004840" y="3267000"/>
            <a:ext cx="1592280" cy="2530440"/>
            <a:chOff x="2004840" y="3267000"/>
            <a:chExt cx="1592280" cy="2530440"/>
          </a:xfrm>
        </p:grpSpPr>
        <p:pic>
          <p:nvPicPr>
            <p:cNvPr id="100" name="Rectangle 11" descr=""/>
            <p:cNvPicPr/>
            <p:nvPr/>
          </p:nvPicPr>
          <p:blipFill>
            <a:blip r:embed="rId2"/>
            <a:stretch/>
          </p:blipFill>
          <p:spPr>
            <a:xfrm>
              <a:off x="2004840" y="3267000"/>
              <a:ext cx="159228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013120" y="3270240"/>
              <a:ext cx="157464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ectangle 15"/>
          <p:cNvGrpSpPr/>
          <p:nvPr/>
        </p:nvGrpSpPr>
        <p:grpSpPr>
          <a:xfrm>
            <a:off x="3614760" y="3255840"/>
            <a:ext cx="1822320" cy="2541600"/>
            <a:chOff x="3614760" y="3255840"/>
            <a:chExt cx="1822320" cy="2541600"/>
          </a:xfrm>
        </p:grpSpPr>
        <p:pic>
          <p:nvPicPr>
            <p:cNvPr id="103" name="Rectangle 15" descr=""/>
            <p:cNvPicPr/>
            <p:nvPr/>
          </p:nvPicPr>
          <p:blipFill>
            <a:blip r:embed="rId3"/>
            <a:stretch/>
          </p:blipFill>
          <p:spPr>
            <a:xfrm>
              <a:off x="3614760" y="3255840"/>
              <a:ext cx="182232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19440" y="3260880"/>
              <a:ext cx="18097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20"/>
          <p:cNvGrpSpPr/>
          <p:nvPr/>
        </p:nvGrpSpPr>
        <p:grpSpPr>
          <a:xfrm>
            <a:off x="5462640" y="3260880"/>
            <a:ext cx="1590480" cy="2536560"/>
            <a:chOff x="5462640" y="3260880"/>
            <a:chExt cx="1590480" cy="2536560"/>
          </a:xfrm>
        </p:grpSpPr>
        <p:pic>
          <p:nvPicPr>
            <p:cNvPr id="106" name="Rectangle 20" descr=""/>
            <p:cNvPicPr/>
            <p:nvPr/>
          </p:nvPicPr>
          <p:blipFill>
            <a:blip r:embed="rId4"/>
            <a:stretch/>
          </p:blipFill>
          <p:spPr>
            <a:xfrm>
              <a:off x="5462640" y="3260880"/>
              <a:ext cx="159048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470560" y="3268800"/>
              <a:ext cx="1574640" cy="25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3"/>
          <p:cNvGrpSpPr/>
          <p:nvPr/>
        </p:nvGrpSpPr>
        <p:grpSpPr>
          <a:xfrm>
            <a:off x="7120080" y="3260880"/>
            <a:ext cx="1822320" cy="2457360"/>
            <a:chOff x="7120080" y="3260880"/>
            <a:chExt cx="1822320" cy="2457360"/>
          </a:xfrm>
        </p:grpSpPr>
        <p:pic>
          <p:nvPicPr>
            <p:cNvPr id="109" name="Rectangle 23" descr=""/>
            <p:cNvPicPr/>
            <p:nvPr/>
          </p:nvPicPr>
          <p:blipFill>
            <a:blip r:embed="rId5"/>
            <a:stretch/>
          </p:blipFill>
          <p:spPr>
            <a:xfrm>
              <a:off x="7120080" y="3260880"/>
              <a:ext cx="18223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128000" y="3268800"/>
              <a:ext cx="180972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4D71B26B-2FC7-4ABA-B54B-5FB38A03E443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2"/>
          <p:cNvSpPr/>
          <p:nvPr/>
        </p:nvSpPr>
        <p:spPr>
          <a:xfrm>
            <a:off x="158760" y="762120"/>
            <a:ext cx="8705880" cy="10508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0960" y="3425760"/>
            <a:ext cx="14410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1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3160" y="4260960"/>
            <a:ext cx="1491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2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2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AutoShape 8"/>
          <p:cNvGrpSpPr/>
          <p:nvPr/>
        </p:nvGrpSpPr>
        <p:grpSpPr>
          <a:xfrm>
            <a:off x="133200" y="1914480"/>
            <a:ext cx="1841760" cy="1316160"/>
            <a:chOff x="133200" y="1914480"/>
            <a:chExt cx="1841760" cy="1316160"/>
          </a:xfrm>
        </p:grpSpPr>
        <p:pic>
          <p:nvPicPr>
            <p:cNvPr id="116" name="AutoShape 8" descr=""/>
            <p:cNvPicPr/>
            <p:nvPr/>
          </p:nvPicPr>
          <p:blipFill>
            <a:blip r:embed="rId6"/>
            <a:stretch/>
          </p:blipFill>
          <p:spPr>
            <a:xfrm>
              <a:off x="133200" y="1914480"/>
              <a:ext cx="184176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04840" y="198108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9"/>
          <p:cNvSpPr/>
          <p:nvPr/>
        </p:nvSpPr>
        <p:spPr>
          <a:xfrm>
            <a:off x="201600" y="195264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Oscilloscop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 (2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utoShape 10"/>
          <p:cNvGrpSpPr/>
          <p:nvPr/>
        </p:nvGrpSpPr>
        <p:grpSpPr>
          <a:xfrm>
            <a:off x="1994040" y="1901880"/>
            <a:ext cx="1603080" cy="1317600"/>
            <a:chOff x="1994040" y="1901880"/>
            <a:chExt cx="1603080" cy="1317600"/>
          </a:xfrm>
        </p:grpSpPr>
        <p:pic>
          <p:nvPicPr>
            <p:cNvPr id="120" name="AutoShape 10" descr=""/>
            <p:cNvPicPr/>
            <p:nvPr/>
          </p:nvPicPr>
          <p:blipFill>
            <a:blip r:embed="rId7"/>
            <a:stretch/>
          </p:blipFill>
          <p:spPr>
            <a:xfrm>
              <a:off x="1994040" y="1901880"/>
              <a:ext cx="16030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065320" y="1968480"/>
              <a:ext cx="146196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12"/>
          <p:cNvSpPr/>
          <p:nvPr/>
        </p:nvSpPr>
        <p:spPr>
          <a:xfrm>
            <a:off x="385920" y="337032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2075040" y="203040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Pow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16000" y="3430440"/>
            <a:ext cx="15782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chn 20V/120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uA/100pA 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22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AutoShape 16"/>
          <p:cNvGrpSpPr/>
          <p:nvPr/>
        </p:nvGrpSpPr>
        <p:grpSpPr>
          <a:xfrm>
            <a:off x="3614760" y="1908000"/>
            <a:ext cx="1835280" cy="1316160"/>
            <a:chOff x="3614760" y="1908000"/>
            <a:chExt cx="1835280" cy="1316160"/>
          </a:xfrm>
        </p:grpSpPr>
        <p:pic>
          <p:nvPicPr>
            <p:cNvPr id="126" name="AutoShape 16" descr=""/>
            <p:cNvPicPr/>
            <p:nvPr/>
          </p:nvPicPr>
          <p:blipFill>
            <a:blip r:embed="rId8"/>
            <a:stretch/>
          </p:blipFill>
          <p:spPr>
            <a:xfrm>
              <a:off x="3614760" y="1908000"/>
              <a:ext cx="183528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683160" y="197496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7"/>
          <p:cNvSpPr/>
          <p:nvPr/>
        </p:nvSpPr>
        <p:spPr>
          <a:xfrm>
            <a:off x="3670200" y="1984320"/>
            <a:ext cx="1643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Digital Multi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079160" y="34290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5.5 digits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00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AutoShape 19"/>
          <p:cNvGrpSpPr/>
          <p:nvPr/>
        </p:nvGrpSpPr>
        <p:grpSpPr>
          <a:xfrm>
            <a:off x="5467320" y="1914480"/>
            <a:ext cx="1598760" cy="1292400"/>
            <a:chOff x="5467320" y="1914480"/>
            <a:chExt cx="1598760" cy="1292400"/>
          </a:xfrm>
        </p:grpSpPr>
        <p:pic>
          <p:nvPicPr>
            <p:cNvPr id="131" name="AutoShape 19" descr=""/>
            <p:cNvPicPr/>
            <p:nvPr/>
          </p:nvPicPr>
          <p:blipFill>
            <a:blip r:embed="rId9"/>
            <a:stretch/>
          </p:blipFill>
          <p:spPr>
            <a:xfrm>
              <a:off x="5467320" y="1914480"/>
              <a:ext cx="159876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33920" y="1984320"/>
              <a:ext cx="14652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1"/>
          <p:cNvSpPr/>
          <p:nvPr/>
        </p:nvSpPr>
        <p:spPr>
          <a:xfrm>
            <a:off x="5545080" y="202392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5566680" y="3400560"/>
            <a:ext cx="1361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2chn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 switch matr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5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AutoShape 24"/>
          <p:cNvGrpSpPr/>
          <p:nvPr/>
        </p:nvGrpSpPr>
        <p:grpSpPr>
          <a:xfrm>
            <a:off x="7083360" y="1901880"/>
            <a:ext cx="1841400" cy="1317600"/>
            <a:chOff x="7083360" y="1901880"/>
            <a:chExt cx="1841400" cy="1317600"/>
          </a:xfrm>
        </p:grpSpPr>
        <p:pic>
          <p:nvPicPr>
            <p:cNvPr id="136" name="AutoShape 24" descr=""/>
            <p:cNvPicPr/>
            <p:nvPr/>
          </p:nvPicPr>
          <p:blipFill>
            <a:blip r:embed="rId10"/>
            <a:stretch/>
          </p:blipFill>
          <p:spPr>
            <a:xfrm>
              <a:off x="7083360" y="1901880"/>
              <a:ext cx="18414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153200" y="1968480"/>
              <a:ext cx="16988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5"/>
          <p:cNvSpPr/>
          <p:nvPr/>
        </p:nvSpPr>
        <p:spPr>
          <a:xfrm>
            <a:off x="7140600" y="1984320"/>
            <a:ext cx="1643040" cy="73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Function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7275960" y="3406680"/>
            <a:ext cx="1441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20Mhz FG with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4-bit 50MS/s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64k AW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6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95280" y="419256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8"/>
          <p:cNvSpPr/>
          <p:nvPr/>
        </p:nvSpPr>
        <p:spPr>
          <a:xfrm>
            <a:off x="2101680" y="3354480"/>
            <a:ext cx="1397160" cy="761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9"/>
          <p:cNvSpPr/>
          <p:nvPr/>
        </p:nvSpPr>
        <p:spPr>
          <a:xfrm>
            <a:off x="3841920" y="33480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5565600" y="334152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1"/>
          <p:cNvSpPr/>
          <p:nvPr/>
        </p:nvSpPr>
        <p:spPr>
          <a:xfrm>
            <a:off x="7147080" y="3351240"/>
            <a:ext cx="1685880" cy="9604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3" descr=""/>
          <p:cNvPicPr/>
          <p:nvPr/>
        </p:nvPicPr>
        <p:blipFill>
          <a:blip r:embed="rId11"/>
          <a:stretch/>
        </p:blipFill>
        <p:spPr>
          <a:xfrm>
            <a:off x="1657440" y="777960"/>
            <a:ext cx="2404800" cy="1079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4"/>
          <p:cNvSpPr/>
          <p:nvPr/>
        </p:nvSpPr>
        <p:spPr>
          <a:xfrm>
            <a:off x="249120" y="87156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 (1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4111560" y="91584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4345920" y="10224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6 slot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(U278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8640" y="7632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USB Modular Instruments Products</a:t>
            </a:r>
            <a:br>
              <a:rPr sz="2400"/>
            </a:br>
            <a:r>
              <a:rPr b="1" lang="en-US" sz="1900" spc="-1" strike="noStrike">
                <a:solidFill>
                  <a:srgbClr val="0099cc"/>
                </a:solidFill>
                <a:latin typeface="Arial"/>
              </a:rPr>
              <a:t>U2700A series Agilent USB Modular Instruments and chassis (7 models)</a:t>
            </a:r>
            <a:br>
              <a:rPr sz="1900"/>
            </a:br>
            <a:endParaRPr b="1" lang="en-US" sz="19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0" name="Text Box 44"/>
          <p:cNvSpPr/>
          <p:nvPr/>
        </p:nvSpPr>
        <p:spPr>
          <a:xfrm>
            <a:off x="139680" y="5832360"/>
            <a:ext cx="8755200" cy="581040"/>
          </a:xfrm>
          <a:prstGeom prst="rect">
            <a:avLst/>
          </a:prstGeom>
          <a:solidFill>
            <a:srgbClr val="ffffc5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ient [ Work in comfort ]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rtable [ Carry your instruments with you ]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 Setup [ Improve Efficiency ]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fordable [ Low start up cost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4" descr="C:\Pictures\Disc1\Jpeg Lowres\DSCF0054.jpg"/>
          <p:cNvPicPr/>
          <p:nvPr/>
        </p:nvPicPr>
        <p:blipFill>
          <a:blip r:embed="rId12"/>
          <a:stretch/>
        </p:blipFill>
        <p:spPr>
          <a:xfrm>
            <a:off x="279360" y="2247840"/>
            <a:ext cx="1612800" cy="1079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152" name="Picture 65" descr="C:\Pictures\Disc1\Jpeg Lowres\DSCF0058.jpg"/>
          <p:cNvPicPr/>
          <p:nvPr/>
        </p:nvPicPr>
        <p:blipFill>
          <a:blip r:embed="rId13"/>
          <a:stretch/>
        </p:blipFill>
        <p:spPr>
          <a:xfrm>
            <a:off x="2197080" y="239724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5" descr="C:\Pictures\Disc1\Jpeg Lowres\DSCF0058.jpg"/>
          <p:cNvPicPr/>
          <p:nvPr/>
        </p:nvPicPr>
        <p:blipFill>
          <a:blip r:embed="rId14"/>
          <a:stretch/>
        </p:blipFill>
        <p:spPr>
          <a:xfrm>
            <a:off x="553716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5" descr="C:\Pictures\Disc1\Jpeg Lowres\DSCF0058.jpg"/>
          <p:cNvPicPr/>
          <p:nvPr/>
        </p:nvPicPr>
        <p:blipFill>
          <a:blip r:embed="rId15"/>
          <a:stretch/>
        </p:blipFill>
        <p:spPr>
          <a:xfrm>
            <a:off x="731520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5" descr="C:\Pictures\Disc1\Jpeg Lowres\DSCF0058.jpg"/>
          <p:cNvPicPr/>
          <p:nvPr/>
        </p:nvPicPr>
        <p:blipFill>
          <a:blip r:embed="rId16"/>
          <a:stretch/>
        </p:blipFill>
        <p:spPr>
          <a:xfrm>
            <a:off x="3860640" y="2349360"/>
            <a:ext cx="1473480" cy="978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0"/>
          <p:cNvSpPr/>
          <p:nvPr/>
        </p:nvSpPr>
        <p:spPr>
          <a:xfrm>
            <a:off x="19044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0"/>
          <p:cNvSpPr/>
          <p:nvPr/>
        </p:nvSpPr>
        <p:spPr>
          <a:xfrm>
            <a:off x="2070000" y="296856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0"/>
          <p:cNvSpPr/>
          <p:nvPr/>
        </p:nvSpPr>
        <p:spPr>
          <a:xfrm>
            <a:off x="370836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0"/>
          <p:cNvSpPr/>
          <p:nvPr/>
        </p:nvSpPr>
        <p:spPr>
          <a:xfrm>
            <a:off x="5511960" y="29685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0"/>
          <p:cNvSpPr/>
          <p:nvPr/>
        </p:nvSpPr>
        <p:spPr>
          <a:xfrm>
            <a:off x="7162920" y="29811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1" descr=""/>
          <p:cNvPicPr/>
          <p:nvPr/>
        </p:nvPicPr>
        <p:blipFill>
          <a:blip r:embed="rId17"/>
          <a:stretch/>
        </p:blipFill>
        <p:spPr>
          <a:xfrm>
            <a:off x="2209680" y="4213080"/>
            <a:ext cx="1143000" cy="7606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8"/>
          <p:cNvSpPr/>
          <p:nvPr/>
        </p:nvSpPr>
        <p:spPr>
          <a:xfrm>
            <a:off x="2133720" y="50292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058840" y="5105520"/>
            <a:ext cx="1564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Parametric Te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Fix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9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266760" y="6651720"/>
            <a:ext cx="614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6D8BCB03-38AD-4E2A-9E24-4BBB6A6A5788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Rectangle 103"/>
          <p:cNvGrpSpPr/>
          <p:nvPr/>
        </p:nvGrpSpPr>
        <p:grpSpPr>
          <a:xfrm>
            <a:off x="7400880" y="2938320"/>
            <a:ext cx="1609920" cy="2719440"/>
            <a:chOff x="7400880" y="2938320"/>
            <a:chExt cx="1609920" cy="2719440"/>
          </a:xfrm>
        </p:grpSpPr>
        <p:pic>
          <p:nvPicPr>
            <p:cNvPr id="166" name="Rectangle 103" descr=""/>
            <p:cNvPicPr/>
            <p:nvPr/>
          </p:nvPicPr>
          <p:blipFill>
            <a:blip r:embed="rId1"/>
            <a:stretch/>
          </p:blipFill>
          <p:spPr>
            <a:xfrm>
              <a:off x="7400880" y="2938320"/>
              <a:ext cx="16099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4041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102"/>
          <p:cNvGrpSpPr/>
          <p:nvPr/>
        </p:nvGrpSpPr>
        <p:grpSpPr>
          <a:xfrm>
            <a:off x="5479920" y="2938320"/>
            <a:ext cx="1841760" cy="2719440"/>
            <a:chOff x="5479920" y="2938320"/>
            <a:chExt cx="1841760" cy="2719440"/>
          </a:xfrm>
        </p:grpSpPr>
        <p:pic>
          <p:nvPicPr>
            <p:cNvPr id="169" name="Rectangle 102" descr=""/>
            <p:cNvPicPr/>
            <p:nvPr/>
          </p:nvPicPr>
          <p:blipFill>
            <a:blip r:embed="rId2"/>
            <a:stretch/>
          </p:blipFill>
          <p:spPr>
            <a:xfrm>
              <a:off x="5479920" y="2938320"/>
              <a:ext cx="184176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486400" y="2946240"/>
              <a:ext cx="18288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101"/>
          <p:cNvGrpSpPr/>
          <p:nvPr/>
        </p:nvGrpSpPr>
        <p:grpSpPr>
          <a:xfrm>
            <a:off x="3816360" y="2938320"/>
            <a:ext cx="1614600" cy="2719440"/>
            <a:chOff x="3816360" y="2938320"/>
            <a:chExt cx="1614600" cy="2719440"/>
          </a:xfrm>
        </p:grpSpPr>
        <p:pic>
          <p:nvPicPr>
            <p:cNvPr id="172" name="Rectangle 101" descr=""/>
            <p:cNvPicPr/>
            <p:nvPr/>
          </p:nvPicPr>
          <p:blipFill>
            <a:blip r:embed="rId3"/>
            <a:stretch/>
          </p:blipFill>
          <p:spPr>
            <a:xfrm>
              <a:off x="381636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82284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ectangle 100"/>
          <p:cNvGrpSpPr/>
          <p:nvPr/>
        </p:nvGrpSpPr>
        <p:grpSpPr>
          <a:xfrm>
            <a:off x="2139840" y="2938320"/>
            <a:ext cx="1614600" cy="2719440"/>
            <a:chOff x="2139840" y="2938320"/>
            <a:chExt cx="1614600" cy="2719440"/>
          </a:xfrm>
        </p:grpSpPr>
        <p:pic>
          <p:nvPicPr>
            <p:cNvPr id="175" name="Rectangle 100" descr=""/>
            <p:cNvPicPr/>
            <p:nvPr/>
          </p:nvPicPr>
          <p:blipFill>
            <a:blip r:embed="rId4"/>
            <a:stretch/>
          </p:blipFill>
          <p:spPr>
            <a:xfrm>
              <a:off x="213984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1463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ectangle 99"/>
          <p:cNvGrpSpPr/>
          <p:nvPr/>
        </p:nvGrpSpPr>
        <p:grpSpPr>
          <a:xfrm>
            <a:off x="133200" y="2938320"/>
            <a:ext cx="1944720" cy="2719440"/>
            <a:chOff x="133200" y="2938320"/>
            <a:chExt cx="1944720" cy="2719440"/>
          </a:xfrm>
        </p:grpSpPr>
        <p:pic>
          <p:nvPicPr>
            <p:cNvPr id="178" name="Rectangle 99" descr=""/>
            <p:cNvPicPr/>
            <p:nvPr/>
          </p:nvPicPr>
          <p:blipFill>
            <a:blip r:embed="rId5"/>
            <a:stretch/>
          </p:blipFill>
          <p:spPr>
            <a:xfrm>
              <a:off x="133200" y="2938320"/>
              <a:ext cx="19447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39680" y="2946240"/>
              <a:ext cx="193032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55" descr="48_u2800_mercury"/>
          <p:cNvPicPr/>
          <p:nvPr/>
        </p:nvPicPr>
        <p:blipFill>
          <a:blip r:embed="rId6"/>
          <a:stretch/>
        </p:blipFill>
        <p:spPr>
          <a:xfrm>
            <a:off x="7518240" y="905040"/>
            <a:ext cx="1347840" cy="127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3440" y="201240"/>
            <a:ext cx="82980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Agilent USB Modular DAQ Products</a:t>
            </a:r>
            <a:br>
              <a:rPr sz="2800"/>
            </a:b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Modular Data Acquisition (18 models)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70700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72624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39680" y="1015920"/>
            <a:ext cx="193032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2158920" y="1015920"/>
            <a:ext cx="15876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3822840" y="102888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8"/>
          <p:cNvSpPr/>
          <p:nvPr/>
        </p:nvSpPr>
        <p:spPr>
          <a:xfrm>
            <a:off x="5486400" y="1015920"/>
            <a:ext cx="18288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7391520" y="101592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35"/>
          <p:cNvGrpSpPr/>
          <p:nvPr/>
        </p:nvGrpSpPr>
        <p:grpSpPr>
          <a:xfrm>
            <a:off x="7400880" y="2127240"/>
            <a:ext cx="1596960" cy="798480"/>
            <a:chOff x="7400880" y="2127240"/>
            <a:chExt cx="1596960" cy="798480"/>
          </a:xfrm>
        </p:grpSpPr>
        <p:pic>
          <p:nvPicPr>
            <p:cNvPr id="190" name="AutoShape 35" descr=""/>
            <p:cNvPicPr/>
            <p:nvPr/>
          </p:nvPicPr>
          <p:blipFill>
            <a:blip r:embed="rId7"/>
            <a:stretch/>
          </p:blipFill>
          <p:spPr>
            <a:xfrm>
              <a:off x="7400880" y="2127240"/>
              <a:ext cx="1596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4422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36"/>
          <p:cNvGrpSpPr/>
          <p:nvPr/>
        </p:nvGrpSpPr>
        <p:grpSpPr>
          <a:xfrm>
            <a:off x="5479920" y="2127240"/>
            <a:ext cx="1841760" cy="798480"/>
            <a:chOff x="5479920" y="2127240"/>
            <a:chExt cx="1841760" cy="798480"/>
          </a:xfrm>
        </p:grpSpPr>
        <p:pic>
          <p:nvPicPr>
            <p:cNvPr id="193" name="AutoShape 36" descr=""/>
            <p:cNvPicPr/>
            <p:nvPr/>
          </p:nvPicPr>
          <p:blipFill>
            <a:blip r:embed="rId8"/>
            <a:stretch/>
          </p:blipFill>
          <p:spPr>
            <a:xfrm>
              <a:off x="5479920" y="2127240"/>
              <a:ext cx="1841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524560" y="2171880"/>
              <a:ext cx="17524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AutoShape 37"/>
          <p:cNvGrpSpPr/>
          <p:nvPr/>
        </p:nvGrpSpPr>
        <p:grpSpPr>
          <a:xfrm>
            <a:off x="3816360" y="2127240"/>
            <a:ext cx="1603440" cy="798480"/>
            <a:chOff x="3816360" y="2127240"/>
            <a:chExt cx="1603440" cy="798480"/>
          </a:xfrm>
        </p:grpSpPr>
        <p:pic>
          <p:nvPicPr>
            <p:cNvPr id="196" name="AutoShape 37" descr=""/>
            <p:cNvPicPr/>
            <p:nvPr/>
          </p:nvPicPr>
          <p:blipFill>
            <a:blip r:embed="rId9"/>
            <a:stretch/>
          </p:blipFill>
          <p:spPr>
            <a:xfrm>
              <a:off x="3816360" y="2127240"/>
              <a:ext cx="1603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860640" y="2171880"/>
              <a:ext cx="15116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38"/>
          <p:cNvGrpSpPr/>
          <p:nvPr/>
        </p:nvGrpSpPr>
        <p:grpSpPr>
          <a:xfrm>
            <a:off x="2152800" y="2127240"/>
            <a:ext cx="1601640" cy="798480"/>
            <a:chOff x="2152800" y="2127240"/>
            <a:chExt cx="1601640" cy="798480"/>
          </a:xfrm>
        </p:grpSpPr>
        <p:pic>
          <p:nvPicPr>
            <p:cNvPr id="199" name="AutoShape 38" descr=""/>
            <p:cNvPicPr/>
            <p:nvPr/>
          </p:nvPicPr>
          <p:blipFill>
            <a:blip r:embed="rId10"/>
            <a:stretch/>
          </p:blipFill>
          <p:spPr>
            <a:xfrm>
              <a:off x="2152800" y="2127240"/>
              <a:ext cx="1601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970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AutoShape 39"/>
          <p:cNvGrpSpPr/>
          <p:nvPr/>
        </p:nvGrpSpPr>
        <p:grpSpPr>
          <a:xfrm>
            <a:off x="128520" y="2127240"/>
            <a:ext cx="1962360" cy="798480"/>
            <a:chOff x="128520" y="2127240"/>
            <a:chExt cx="1962360" cy="798480"/>
          </a:xfrm>
        </p:grpSpPr>
        <p:pic>
          <p:nvPicPr>
            <p:cNvPr id="202" name="AutoShape 39" descr=""/>
            <p:cNvPicPr/>
            <p:nvPr/>
          </p:nvPicPr>
          <p:blipFill>
            <a:blip r:embed="rId11"/>
            <a:stretch/>
          </p:blipFill>
          <p:spPr>
            <a:xfrm>
              <a:off x="128520" y="2127240"/>
              <a:ext cx="19623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69920" y="2171880"/>
              <a:ext cx="18748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0"/>
          <p:cNvSpPr/>
          <p:nvPr/>
        </p:nvSpPr>
        <p:spPr>
          <a:xfrm>
            <a:off x="241200" y="2203560"/>
            <a:ext cx="177336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300A Ser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Multifunction D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7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209680" y="2203560"/>
            <a:ext cx="14432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781A – Modular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1 Mode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924360" y="2203560"/>
            <a:ext cx="1442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500A – Simul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ampling DAQ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( 3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5537160" y="2203560"/>
            <a:ext cx="16844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U2100A &amp; U26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Isolated Digital IO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6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54880" y="2178000"/>
            <a:ext cx="144288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8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ignal Condi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(1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0" descr=""/>
          <p:cNvPicPr/>
          <p:nvPr/>
        </p:nvPicPr>
        <p:blipFill>
          <a:blip r:embed="rId12"/>
          <a:stretch/>
        </p:blipFill>
        <p:spPr>
          <a:xfrm>
            <a:off x="563400" y="1305000"/>
            <a:ext cx="1089360" cy="53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1" descr=""/>
          <p:cNvPicPr/>
          <p:nvPr/>
        </p:nvPicPr>
        <p:blipFill>
          <a:blip r:embed="rId13"/>
          <a:stretch/>
        </p:blipFill>
        <p:spPr>
          <a:xfrm>
            <a:off x="2089080" y="876240"/>
            <a:ext cx="17082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2" descr=""/>
          <p:cNvPicPr/>
          <p:nvPr/>
        </p:nvPicPr>
        <p:blipFill>
          <a:blip r:embed="rId14"/>
          <a:stretch/>
        </p:blipFill>
        <p:spPr>
          <a:xfrm>
            <a:off x="4127400" y="1281240"/>
            <a:ext cx="1000080" cy="49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3" descr=""/>
          <p:cNvPicPr/>
          <p:nvPr/>
        </p:nvPicPr>
        <p:blipFill>
          <a:blip r:embed="rId15"/>
          <a:stretch/>
        </p:blipFill>
        <p:spPr>
          <a:xfrm>
            <a:off x="6408720" y="1382760"/>
            <a:ext cx="81288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4" descr=""/>
          <p:cNvPicPr/>
          <p:nvPr/>
        </p:nvPicPr>
        <p:blipFill>
          <a:blip r:embed="rId16"/>
          <a:stretch/>
        </p:blipFill>
        <p:spPr>
          <a:xfrm>
            <a:off x="5514840" y="1368360"/>
            <a:ext cx="636840" cy="3938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2"/>
          <p:cNvSpPr/>
          <p:nvPr/>
        </p:nvSpPr>
        <p:spPr>
          <a:xfrm>
            <a:off x="167040" y="30751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3"/>
          <p:cNvSpPr/>
          <p:nvPr/>
        </p:nvSpPr>
        <p:spPr>
          <a:xfrm>
            <a:off x="165960" y="367200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4"/>
          <p:cNvSpPr/>
          <p:nvPr/>
        </p:nvSpPr>
        <p:spPr>
          <a:xfrm>
            <a:off x="216000" y="4414680"/>
            <a:ext cx="8445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5"/>
          <p:cNvSpPr/>
          <p:nvPr/>
        </p:nvSpPr>
        <p:spPr>
          <a:xfrm>
            <a:off x="165960" y="499284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6"/>
          <p:cNvSpPr/>
          <p:nvPr/>
        </p:nvSpPr>
        <p:spPr>
          <a:xfrm>
            <a:off x="203040" y="3017880"/>
            <a:ext cx="87660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7"/>
          <p:cNvSpPr/>
          <p:nvPr/>
        </p:nvSpPr>
        <p:spPr>
          <a:xfrm>
            <a:off x="190440" y="3614760"/>
            <a:ext cx="897120" cy="6620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8"/>
          <p:cNvSpPr/>
          <p:nvPr/>
        </p:nvSpPr>
        <p:spPr>
          <a:xfrm>
            <a:off x="190440" y="4338720"/>
            <a:ext cx="88128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9"/>
          <p:cNvSpPr/>
          <p:nvPr/>
        </p:nvSpPr>
        <p:spPr>
          <a:xfrm>
            <a:off x="179280" y="4924440"/>
            <a:ext cx="885960" cy="6746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0"/>
          <p:cNvSpPr/>
          <p:nvPr/>
        </p:nvSpPr>
        <p:spPr>
          <a:xfrm>
            <a:off x="1146600" y="3087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5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1"/>
          <p:cNvSpPr/>
          <p:nvPr/>
        </p:nvSpPr>
        <p:spPr>
          <a:xfrm>
            <a:off x="1119600" y="371628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6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2"/>
          <p:cNvSpPr/>
          <p:nvPr/>
        </p:nvSpPr>
        <p:spPr>
          <a:xfrm>
            <a:off x="1184040" y="4408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2-bit, 3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3"/>
          <p:cNvSpPr/>
          <p:nvPr/>
        </p:nvSpPr>
        <p:spPr>
          <a:xfrm>
            <a:off x="1155600" y="3017880"/>
            <a:ext cx="870120" cy="533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4"/>
          <p:cNvSpPr/>
          <p:nvPr/>
        </p:nvSpPr>
        <p:spPr>
          <a:xfrm>
            <a:off x="1160640" y="3665520"/>
            <a:ext cx="857160" cy="495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5"/>
          <p:cNvSpPr/>
          <p:nvPr/>
        </p:nvSpPr>
        <p:spPr>
          <a:xfrm>
            <a:off x="1155600" y="4338720"/>
            <a:ext cx="862200" cy="522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6"/>
          <p:cNvSpPr/>
          <p:nvPr/>
        </p:nvSpPr>
        <p:spPr>
          <a:xfrm>
            <a:off x="2479680" y="3097080"/>
            <a:ext cx="9018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78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 slots chas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7"/>
          <p:cNvSpPr/>
          <p:nvPr/>
        </p:nvSpPr>
        <p:spPr>
          <a:xfrm>
            <a:off x="2444760" y="3032280"/>
            <a:ext cx="96840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8"/>
          <p:cNvSpPr/>
          <p:nvPr/>
        </p:nvSpPr>
        <p:spPr>
          <a:xfrm>
            <a:off x="4142160" y="3060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9"/>
          <p:cNvSpPr/>
          <p:nvPr/>
        </p:nvSpPr>
        <p:spPr>
          <a:xfrm>
            <a:off x="4185720" y="3666960"/>
            <a:ext cx="939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0"/>
          <p:cNvSpPr/>
          <p:nvPr/>
        </p:nvSpPr>
        <p:spPr>
          <a:xfrm>
            <a:off x="4035600" y="3029040"/>
            <a:ext cx="1134720" cy="484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1"/>
          <p:cNvSpPr/>
          <p:nvPr/>
        </p:nvSpPr>
        <p:spPr>
          <a:xfrm>
            <a:off x="4029120" y="3619440"/>
            <a:ext cx="1173240" cy="509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2"/>
          <p:cNvSpPr/>
          <p:nvPr/>
        </p:nvSpPr>
        <p:spPr>
          <a:xfrm>
            <a:off x="4243320" y="4273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4-bit, 2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3"/>
          <p:cNvSpPr/>
          <p:nvPr/>
        </p:nvSpPr>
        <p:spPr>
          <a:xfrm>
            <a:off x="4071960" y="4229280"/>
            <a:ext cx="1123920" cy="4968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4"/>
          <p:cNvSpPr/>
          <p:nvPr/>
        </p:nvSpPr>
        <p:spPr>
          <a:xfrm>
            <a:off x="5587560" y="306396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16 Inputs, 16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5"/>
          <p:cNvSpPr/>
          <p:nvPr/>
        </p:nvSpPr>
        <p:spPr>
          <a:xfrm>
            <a:off x="5673600" y="3006720"/>
            <a:ext cx="1171800" cy="3697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6"/>
          <p:cNvSpPr/>
          <p:nvPr/>
        </p:nvSpPr>
        <p:spPr>
          <a:xfrm>
            <a:off x="5635080" y="351144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7"/>
          <p:cNvSpPr/>
          <p:nvPr/>
        </p:nvSpPr>
        <p:spPr>
          <a:xfrm>
            <a:off x="5580000" y="3467160"/>
            <a:ext cx="701640" cy="358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8"/>
          <p:cNvSpPr/>
          <p:nvPr/>
        </p:nvSpPr>
        <p:spPr>
          <a:xfrm>
            <a:off x="6436440" y="351792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9"/>
          <p:cNvSpPr/>
          <p:nvPr/>
        </p:nvSpPr>
        <p:spPr>
          <a:xfrm>
            <a:off x="6446880" y="3462480"/>
            <a:ext cx="681120" cy="357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0"/>
          <p:cNvSpPr/>
          <p:nvPr/>
        </p:nvSpPr>
        <p:spPr>
          <a:xfrm>
            <a:off x="5670000" y="396864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, 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1"/>
          <p:cNvSpPr/>
          <p:nvPr/>
        </p:nvSpPr>
        <p:spPr>
          <a:xfrm>
            <a:off x="5740560" y="3911760"/>
            <a:ext cx="1201680" cy="3823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2"/>
          <p:cNvSpPr/>
          <p:nvPr/>
        </p:nvSpPr>
        <p:spPr>
          <a:xfrm>
            <a:off x="6041160" y="441792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26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3"/>
          <p:cNvSpPr/>
          <p:nvPr/>
        </p:nvSpPr>
        <p:spPr>
          <a:xfrm>
            <a:off x="5859360" y="4373640"/>
            <a:ext cx="909720" cy="384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4"/>
          <p:cNvSpPr/>
          <p:nvPr/>
        </p:nvSpPr>
        <p:spPr>
          <a:xfrm>
            <a:off x="5980680" y="488484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5"/>
          <p:cNvSpPr/>
          <p:nvPr/>
        </p:nvSpPr>
        <p:spPr>
          <a:xfrm>
            <a:off x="5851440" y="4815000"/>
            <a:ext cx="93528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6"/>
          <p:cNvSpPr/>
          <p:nvPr/>
        </p:nvSpPr>
        <p:spPr>
          <a:xfrm>
            <a:off x="7670880" y="3149640"/>
            <a:ext cx="10015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8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31 chn Thermocouple Signal Conditio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7"/>
          <p:cNvSpPr/>
          <p:nvPr/>
        </p:nvSpPr>
        <p:spPr>
          <a:xfrm>
            <a:off x="7635960" y="3046320"/>
            <a:ext cx="1055520" cy="668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8"/>
          <p:cNvSpPr/>
          <p:nvPr/>
        </p:nvSpPr>
        <p:spPr>
          <a:xfrm>
            <a:off x="158760" y="6019920"/>
            <a:ext cx="8848800" cy="276120"/>
          </a:xfrm>
          <a:prstGeom prst="rect">
            <a:avLst/>
          </a:prstGeom>
          <a:solidFill>
            <a:srgbClr val="ffffcc"/>
          </a:solidFill>
          <a:ln w="12600">
            <a:solidFill>
              <a:srgbClr val="275e7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B interface  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asy &amp; Quick Setup Software Conven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0"/>
          <p:cNvSpPr/>
          <p:nvPr/>
        </p:nvSpPr>
        <p:spPr>
          <a:xfrm>
            <a:off x="1028880" y="179064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1"/>
          <p:cNvSpPr/>
          <p:nvPr/>
        </p:nvSpPr>
        <p:spPr>
          <a:xfrm>
            <a:off x="4495680" y="181620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2"/>
          <p:cNvSpPr/>
          <p:nvPr/>
        </p:nvSpPr>
        <p:spPr>
          <a:xfrm>
            <a:off x="6527880" y="182880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: Soft Front Panel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ilent Measurement Manag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(A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USB scope AMiMM"/>
          <p:cNvPicPr/>
          <p:nvPr/>
        </p:nvPicPr>
        <p:blipFill>
          <a:blip r:embed="rId1"/>
          <a:stretch/>
        </p:blipFill>
        <p:spPr>
          <a:xfrm>
            <a:off x="503280" y="2166840"/>
            <a:ext cx="7151760" cy="404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USB switch matrix AMiMM"/>
          <p:cNvPicPr/>
          <p:nvPr/>
        </p:nvPicPr>
        <p:blipFill>
          <a:blip r:embed="rId2"/>
          <a:stretch/>
        </p:blipFill>
        <p:spPr>
          <a:xfrm>
            <a:off x="5041800" y="890640"/>
            <a:ext cx="3422880" cy="22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C3588D1D-AACE-4F10-93A3-D6215E4B3807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 Measurement Manager (AMM) – Bundled in sales of USB Modular Instruments and USB Modular DAQ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7160" y="1577520"/>
            <a:ext cx="86882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Software for quick configura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gramming knowledg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e to access to all Agilent USB Modular Data Acquisition and USB Modular Instruments hardwar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ogger function allows users to log the SCPI command sequence and the time command is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Generator utility allows users to convert the logged SCPI commands to VEE8.5, Visual Basic/C++ and C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AA5D6BBE-097B-43D3-AEB3-8C168D7F245E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43513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128520" y="5165640"/>
            <a:ext cx="8810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Command Logger before starting devic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the commands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vice via A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A3396879-FE41-41AC-9031-3688644D20F3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7160" y="4281120"/>
            <a:ext cx="8572320" cy="19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aved command logger file into other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nverter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nt VEE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C#/C++/VB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237960" y="660240"/>
            <a:ext cx="54309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A000BE25-F10D-4BFD-B38B-649F0BBB09A5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C:\Documents and Settings\engchneo\Desktop\ScreenHunter_03 Mar. 30 10.17.gif"/>
          <p:cNvPicPr/>
          <p:nvPr/>
        </p:nvPicPr>
        <p:blipFill>
          <a:blip r:embed="rId1"/>
          <a:stretch/>
        </p:blipFill>
        <p:spPr>
          <a:xfrm>
            <a:off x="514440" y="1195560"/>
            <a:ext cx="8048520" cy="41623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8"/>
          <p:cNvSpPr/>
          <p:nvPr/>
        </p:nvSpPr>
        <p:spPr>
          <a:xfrm>
            <a:off x="620640" y="5432400"/>
            <a:ext cx="80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bundled Agilent Measurement Manager Software -&gt; Tools -&gt; Command Lo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81D7E182-4C8C-4DFA-9292-57AD4CC91D83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engchneo\Desktop\ScreenHunter_05 Mar. 30 10.20.gif"/>
          <p:cNvPicPr/>
          <p:nvPr/>
        </p:nvPicPr>
        <p:blipFill>
          <a:blip r:embed="rId1"/>
          <a:stretch/>
        </p:blipFill>
        <p:spPr>
          <a:xfrm>
            <a:off x="387360" y="903240"/>
            <a:ext cx="5945040" cy="35193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282600" y="48769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Command Logger Window -&gt; File -&gt; Convert Command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C:\Documents and Settings\engchneo\Desktop\ScreenHunter_06 Mar. 30 10.21.gif"/>
          <p:cNvPicPr/>
          <p:nvPr/>
        </p:nvPicPr>
        <p:blipFill>
          <a:blip r:embed="rId2"/>
          <a:stretch/>
        </p:blipFill>
        <p:spPr>
          <a:xfrm>
            <a:off x="6610320" y="3921120"/>
            <a:ext cx="2533680" cy="2390760"/>
          </a:xfrm>
          <a:prstGeom prst="rect">
            <a:avLst/>
          </a:prstGeom>
          <a:ln w="0">
            <a:noFill/>
          </a:ln>
        </p:spPr>
      </p:pic>
      <p:sp>
        <p:nvSpPr>
          <p:cNvPr id="283" name="Right Arrow 8"/>
          <p:cNvSpPr/>
          <p:nvPr/>
        </p:nvSpPr>
        <p:spPr>
          <a:xfrm>
            <a:off x="5224320" y="5170320"/>
            <a:ext cx="1165320" cy="544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99cc"/>
          </a:solidFill>
          <a:ln w="1260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4T03:26:34Z</dcterms:created>
  <dc:creator>Eng Chye NEO</dc:creator>
  <dc:description/>
  <dc:language>en-US</dc:language>
  <cp:lastModifiedBy>Eng Chye NEO</cp:lastModifiedBy>
  <dcterms:modified xsi:type="dcterms:W3CDTF">2009-04-16T06:49:03Z</dcterms:modified>
  <cp:revision>267</cp:revision>
  <dc:subject/>
  <dc:title>USB Modular Product Software Function_Command Logger and Code Converter</dc:title>
</cp:coreProperties>
</file>